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62A3-AE7E-4AA9-846A-774E46F2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A7B2-BD9C-4B14-917D-A19A47A3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BADE-FCBD-4E16-92CA-F4D794D6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2BBD-4811-4D67-A917-66AEB5E8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3481-42D7-4616-BFC9-25149B3C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6738-6930-419B-B311-B539EC6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6E83-9543-4D76-9F41-E2728D62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B34D-8E52-4170-AF50-657D2BB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233D-5160-4A85-BFD8-F0307FC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E277-2B45-440B-8EA2-91B9DA46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3665-4028-4C0B-A412-63A3AEE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6119-FA31-4296-B2CB-89E9E46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D60B-885B-4D81-8F06-B5DEB5E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1F6-81E9-425B-AA8E-1153071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D2EF-09F5-4ABD-B909-D47B2C7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C6F9-3B0F-4566-A0E1-C0E1BA42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106-2D2A-4BEB-8568-3F5E841C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9E80-EA10-4DB8-90D0-9938EDC2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9441-423A-4507-81A3-47F48C1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43AB-B6D0-4B06-B1E4-2CCDB1EB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C0CA-6FB3-42C1-9D5B-E15BB35A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DCA5-8E09-4EDF-A5A6-2984CA0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2046-0069-42DD-AB77-FEDB1E2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B2F0-47E1-44CB-9984-C28C7FF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5B6-4F39-4F1A-99AA-55B070F5B3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487-F459-4C7D-AA63-E87F60EE1E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компетенции профсоюзного лид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Коммуникативная компетент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046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компетент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ногоуровневое интегративное качество личности (совокупность когнитивных, эмоциональных, поведенческих особенностей), опосредующее эффективную коммуникатив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Виды коммуник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00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 барь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абсолютное или относительное препятствие эффективному общению, субъективно переживаемое или реально присутствующее в ситуациях общения, причинами которого являются мотивационно-операциональные, индивидуально-психологические, социально-психологические особенности общ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 потенциал лич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ндивидуально- своеобразный комплекс коммуникативных особенностей работника (внутриличностных и поведенческих), характеризующих его возможности в осуществлении коммуникативной составляющей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заимодействие, с помощью которого информация передается и принимается; влияние людей друг на друга, обмен различными идеями, интересами, настроениями, чув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Средства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Вербальны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 (тембр, тональность, темп и т.д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е техники коммуникац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Невербальны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сем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с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ес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658800" y="1420920"/>
            <a:ext cx="777888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тегии</a:t>
            </a: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оциональная надстройка к партн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Объект 5" descr=""/>
          <p:cNvPicPr/>
          <p:nvPr/>
        </p:nvPicPr>
        <p:blipFill>
          <a:blip r:embed="rId1"/>
          <a:stretch/>
        </p:blipFill>
        <p:spPr>
          <a:xfrm>
            <a:off x="743040" y="1835280"/>
            <a:ext cx="7675560" cy="4863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гументация и убеждение собесе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нование выдвигаемых положений. Продумываются доводы, очередность их подачи, способы уб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4 вида убеждающих воз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ъясн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вер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рьеры вос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впечат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ло-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у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б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рьеры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дер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культур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тип участников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каналов мода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сте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перамент, характер и индивидуальные особенности 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ы манипуляции и контрманипуляции в деловой бес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вокация на не компетентность»    -вы говорите ерунду…вы не пра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вокация принижение значимости (акцент на личностные особенности)                                             - вы давно этим занимаетесь? С моим опыт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увство вины»                                         - вы как всегда подвели нас! Из-за вас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Шантаж»                                                   -если вы не сможете принять правильное решение, мы будем вынуждены действовать по приказ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ладкая морков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увство безысходности»                          - у нас два пути или так, или так…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поративные и должностные компет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Группа 28" descr=""/>
          <p:cNvPicPr/>
          <p:nvPr/>
        </p:nvPicPr>
        <p:blipFill>
          <a:blip r:embed="rId1"/>
          <a:stretch/>
        </p:blipFill>
        <p:spPr>
          <a:xfrm>
            <a:off x="895320" y="1170000"/>
            <a:ext cx="7913880" cy="4956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6836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 на уступках»                               - мат. выплаты, возможности.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мя»                                                  - ограничение времени для принятия решения или затягивание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ование авторитетов»             - это решение комисс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моциональная надстройка»              - страх, неуверенность, довери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гический прием»                              - причинно-следственная связь, факты, документы, фиксированные наруше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ные осн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ческое давление»                 - показать невыгодность сопротивле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бор без выб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азание помощи и поддержки»          - помощь в трудоустройстве, рекомендац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алость»                                                  - у вас такая жизненная ситуация… вам это над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184464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лидера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ы лид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ется как процесс организации и управления малой группой, способствующего достижению групповых целей в определенные сроки и с оптимальной эффектив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член группы, который выдвинут на роль неформального руководителя в условиях специфической и значимой ситуации для быстрого и успешного достижения результатов деятельности или общей ц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лидера и его ум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981080"/>
            <a:ext cx="8362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овать и отслеживать процесс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ть и вдохновлять к дополнительным усилиям, способствовать единому пониманию значения и смысла поставленной цели, стимулировать к их дости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я делового ли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ть сложные задачи в прост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этапы достижения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ерживаться алгоритма принятия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ть и синтезировать информ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ть мысли и лаконично излагать главные иде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ть хладнокровие, рассудительность и уравновешенность в проблемных (стрессовых) ситуа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интуитивные резервы со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чужой опыт, помощь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ИИ ЛИДЕ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ия черт лид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 рассматривается как носитель определенных качеств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й, способствующих влиянию на других (харизматическ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ционный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 — лицо, в наибольшей степени отвечающее ожидания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и наиболее последовательно придерживающееся е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ов, ценностей.  (статус, прести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онн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оятностные теории лидерства (Теория Ф. Фидле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ая модель В. Вроома, Ф. Йеттона и А. Я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ия лидерских 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2184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ия лидерских р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56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 содержанию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-вдохновитель, ярко демонстрирующий программу (модель)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, исполнитель, организатор выполнения уже заданной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ниверсальный лидер» — лидер, совмещающий вдохновителя и организ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 стилю руковод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тар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еск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щающий в себе элементы обоих с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 характеру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, постоянно проявляющий свои качества лид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ый лидер, проявляющий качества лидера лишь в определенной, специфическ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Теория лидерских ролей по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Р. Л. Кричевском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ой лид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льный лид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лид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(делов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идей (креатив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 эмоционального притяжения («звезда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(знающий и умеющ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оциональный интелл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собность воспринимать и понимать проявления личности, выражаемые в эмоциях, управлять эмоциями на основе интеллектуальных процессо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интеллект включает в себя 4 ча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воспринимать или чувствовать эмоции (как свои собственные, так и другого челове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направлять свои эмоции в помощь разу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онимать, что выражает та или иная эмо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управлять эмоци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оделей эмоционального интелл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98072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интеллект в трактовке Бар-Она это все некогнитивные способности, знания и компетентность, дающие человеку возможность успешно справляться с различными жизненными ситу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делей эмоционального интеллекта можно представить, как континуум между аффектом и интеллек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 первой стала работа Салоуэя и Майера, и она включала в себя только познавательные способности, связанные с переработкой информации об эмо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 высоким уровнем эмоционального интеллекта хорошо понимают свои эмоции и чувства других людей, могут управлять своей эмоциональной сферой, и поэтому в обществе их поведение  более адаптивно и они легче добиваются своих целей во взаимодействии с 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онцепция эмоционального интелл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380880" y="1484280"/>
            <a:ext cx="874260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компетентности специа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хема 2" descr=""/>
          <p:cNvPicPr/>
          <p:nvPr/>
        </p:nvPicPr>
        <p:blipFill>
          <a:blip r:embed="rId1"/>
          <a:stretch/>
        </p:blipFill>
        <p:spPr>
          <a:xfrm>
            <a:off x="1547640" y="517680"/>
            <a:ext cx="7126560" cy="59385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16"/>
          <p:cNvSpPr/>
          <p:nvPr/>
        </p:nvSpPr>
        <p:spPr>
          <a:xfrm>
            <a:off x="3203640" y="907920"/>
            <a:ext cx="0" cy="34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18"/>
          <p:cNvCxnSpPr/>
          <p:nvPr/>
        </p:nvCxnSpPr>
        <p:spPr>
          <a:xfrm>
            <a:off x="3203280" y="169992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20"/>
          <p:cNvCxnSpPr/>
          <p:nvPr/>
        </p:nvCxnSpPr>
        <p:spPr>
          <a:xfrm>
            <a:off x="3203280" y="299700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22"/>
          <p:cNvCxnSpPr/>
          <p:nvPr/>
        </p:nvCxnSpPr>
        <p:spPr>
          <a:xfrm>
            <a:off x="3203280" y="436536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фактора эмоционального интелл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ознание помогает понимать собственные чувства, способности и ограни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риспособленность позволяет чувствовать эмоции других людей, понимать их точку зрения и активно интересоваться их заботами, а также ориентироваться в обществен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я дает возможность контролировать разрушительные эмоции и импульсы, отвечать за свои поступки и обязательства. К ней же относятся мотивация достижений (стремление соответствовать высоким внутренним стандартам) и инициативность (готовность воспользоваться открывающимися способност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тнош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е отношениями включает ряд умений и качест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70028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вести за собой - готовность брать на себя ответственность за дело и убеждать других участвовать в н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казывать влияние - умение использовать различные приемы убе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звивать людей - склонность распознавать способности других людей, направлять и развивать 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бщаться - способность выслушивать других и конструктивно, убедительно и изящно излагать свои мысл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переменам - умение проповедовать новые идеи и вести других людей в новом направл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управления конфликтами - способность разряжать, гармонизировать разногласия и примирять враждующие стор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налаживать связи - умение создавать и поддерживать связи и личные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в команде - способность развивать сотрудничество в коман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177336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ж профсоюзного лидера (образ) включает три основных эле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ры (деловой этик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4005360"/>
            <a:ext cx="77756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я в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вер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вер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ем ид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77336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ми переговор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ется особый вид совместной деятельности нескольких лиц, не связанных друг с другом отношениями прямого подчинения, направленный на решение стоящих перед ними проблем, которые могут быть своими у каждого или общими у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4076640"/>
            <a:ext cx="8218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оры могут быть официальными и неофициальными. Официальные завершаются подписанием документов, имеющих юридическую силу; неофициальные - в лучшем случае не обязывающим ни к чему протоколом о намер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Деловая бес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бесед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цесс общения с использованием вербальной и невербальной связей, направленный на решение вопросов производственн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Деловое общ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ое общен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ид общения, который является нормативно одобренным, жестко регламентированным; функционирует в какой-либо социальной сфере для решения определенных зада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Диалогическое общ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ическое общ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форма общения, основывающаяся на априорном внутреннем принятии друг друга как самодостаточных личностей и предполагающая ориентацию на индивидуальную неповторимость каждого из су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Ими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целенаправленно формируемый образ (лица, явления, предмета, фирмы), призванный оказать эмоционально-психологическое воздействие на кого-либо в целях популяризации, рекл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07:16:32Z</dcterms:created>
  <dc:creator>Света</dc:creator>
  <dc:description/>
  <dc:language>en-US</dc:language>
  <cp:lastModifiedBy>User</cp:lastModifiedBy>
  <cp:lastPrinted>2015-12-03T14:51:45Z</cp:lastPrinted>
  <dcterms:modified xsi:type="dcterms:W3CDTF">2025-02-24T09:01:05Z</dcterms:modified>
  <cp:revision>118</cp:revision>
  <dc:subject/>
  <dc:title>Психология стресса</dc:title>
</cp:coreProperties>
</file>